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CDCD-0AFE-4202-B3B0-E8A85B8A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4A27-BA82-4A3D-A832-66AB22F4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63951-4FB9-4F82-A5C4-91E0F586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45A1F-8726-49B1-A47E-2917493B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2B4DF-4FBC-43B5-AA40-DE35413F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D1F48-04D7-4B43-9735-A4F689A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DACA5-4524-47F4-8D3F-B4D40379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42255-E0CB-4034-8E67-5B536A24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081A1-B0FA-4F3B-9B58-DE003E86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CB963-A1BE-4F4C-9D1E-74C59A4C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5147F-CBD2-4340-BDFF-98CA16F2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B8F8B-AA24-471B-9208-704623F7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6766-83B0-4BE1-8C6B-8B911CED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D58FE-AD39-47D5-B293-41699D36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7F79F-9CB2-49E7-8421-94CE7B8B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623D0-1435-45E8-9A1D-22F6E585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4FB24-F380-4DDB-A33D-0709BB4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799AE-088F-4030-9649-9A80D7DF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D3535-0E48-4751-B910-AD1F329D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F8E23-6066-494F-BABF-6DB04A9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26DB-4997-452B-9CCD-30BFD1D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5C649-F0D5-4742-B392-CD330265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4BFA5-4A6C-4EFC-88BB-6A8385C0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9929-FA24-48C2-B8D2-2674FCC8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FF343-BD9C-4B66-8FB2-77BB52E1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7C11C-B51E-44D4-B76B-336C0745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A4435-AB5F-4266-BAC7-EA63ACBE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D9CFE-5125-4A1A-AB85-D90FCB41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5908E-D839-4355-8A2A-C7197DFC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4328B-4EA9-4440-AD10-DE470DBE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55978-1361-4AA2-B8E0-69C6E0FE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28F89-8E7A-47B1-B4A3-ED2ABBA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7F258-3C91-44B3-BFF6-A09E7F1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18E22-095A-4508-9688-D4A38C8B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C60B-4E78-4B96-A318-55B2E444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4256B-D6FA-4150-8502-C6ED96C9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8FF50-6D87-4A4E-ACBA-BE92B307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29730-1BF6-47AC-AFF7-011B8DF4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8EAED5-85BE-47C4-9A2E-31641735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48CFA3-500D-4CB8-BA10-D8A931C3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771125-01E1-4207-8D4B-554672EE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A7F58C-EA79-4F2A-A72E-DB4E1D7B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356D49-03B0-4A18-A3A2-DDC733DC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0E8774-49C3-419D-9E30-3A49B5DB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C69E2B-F73D-4B0B-A41A-57B71D67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73DA-A004-4F92-94B6-DD9BC9E9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CE6DD5-21C1-4776-8870-2C55E715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8F83EA-FF54-42CE-A3E6-EE797CBC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8B048B-2A75-4053-8F38-3C7D1496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40FEF3-39AE-4520-A582-96CF5E21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F60AAF-1519-43BB-B8F3-43125E19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409D6-2B4D-4609-B298-E2158B74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6A610-78B7-4CC6-BFC5-06346EFD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65FCC-A08A-4384-8786-90560F13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D6A7F-423A-4A8D-B347-9664831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19306-6A9A-4915-AECC-6EA0B549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1DD5-6FCB-4C86-A258-C6C130BD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02B46-F636-4037-8992-E0C577F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C7DEE-405F-4B84-BF42-8C60054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C0C08-4422-4173-93C5-A350697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82DB4-CAA1-49EA-9DCB-021B8160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01743-8226-45E0-BFEF-A3300630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3E584-C150-43C3-99A0-0D22CFE2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87A37-0833-4CB2-A460-97B6079C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C3461-DDA5-4993-BB54-70EA8FC0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C0855-FABC-4F99-BF8A-50F45AD9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D0B1B-6CBD-4C41-8B0B-AD9EF69D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D8FE-60FF-4AFA-BE70-2EF5BD3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4A528-38FC-4AE3-9487-FE662316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C6E21-928F-4989-8295-860898A0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1993D-04E4-4802-8989-8EF44899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8D67E-20C6-444D-AD14-C37A5FCE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B1978-0D4F-4F2A-B093-2DF92A16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C8F72-75B9-4990-A65A-BE78885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95E2A-B675-4446-86F9-4029FA3F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76C3F-631A-41A6-956F-D690A7AA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916E0-6745-4213-B13B-47946157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361E0-A0EF-4C99-AC3E-E86CB7A2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8CE7-6804-4CBB-B03E-A652E7CF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2A114-898C-4C79-85E2-01646CAB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BC192-A8A0-4281-A971-EA7D6B8A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DD96A-9D3A-4523-8DB3-422B9B5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9DC6C-CB4B-4C98-8EAE-B417BD41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B3A00-33EF-45BB-AEF8-E8B004DA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71A57-3EFB-4F89-AE4C-DEE79DF0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5616B-3157-41A7-B4EF-4289E50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09D2D-EB13-4BF6-A060-5FD28771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43D40-7A57-4A98-A862-A4E7C29F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24D2B-694C-420B-A12F-825A7DED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0CF0-35F2-4E7B-9C15-0F85B22A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9F591-F022-4FB2-9585-986D6DBB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ED64D-5610-4C40-8D70-6F7B92FD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316EE-A2EB-4252-ABFC-11CF0C97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D8A70-A714-4B55-BD20-75207E00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A9BF4-3336-43AA-A19A-5ECC3DBB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BF729-A5F8-4E80-BC73-66342A5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5F4D02-D89C-4B71-97CA-50E4A63E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0F051-09FD-4963-A7FF-1E28CEAB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CDDAB-F8A0-4487-A6E9-8CC6B179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57DCB-2AA0-48E6-963F-1183DB4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DD92-81A6-4635-B50A-340EDDEC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01F1D-113F-441E-99F0-5EAFF225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BB8D5-4290-4910-99B3-0A345F3B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58734-64FE-43F9-AB4E-DDF67C79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0DBF-0178-4E2F-9EAA-DABB3AD0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976E-E258-4F3B-93D9-E4353225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D8AF-F89B-4F80-BCB0-DFA797E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274F-90C5-47CA-AC4E-A713AA6B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4521-DC3A-4B3D-BAB1-9E3F29FA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D1C-1D66-4020-95EE-0589968D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8437D-2EC7-4C82-B431-AB8C18A4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EE04-8569-46C3-BAE0-AAD253B2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F18F-9717-4BDD-8569-5A3EE9BB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7A6B-08EE-4F46-B548-9BD962AA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B9F8-024E-4AE6-AB93-3A055948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BA30-8472-4BB1-8CF1-FF7CF1B5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C1F0-B034-4CD4-82E7-574E440A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A74B-D4A8-49A1-9C44-7E92385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08C5-B061-4AA3-943E-6B63DFC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8929-9DCB-4B5A-B370-106DBF1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D239-94A4-46EF-A038-B5E0C5B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6D07-03C7-4133-8EB2-48B061DC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1C77-F25E-4161-B703-A3F855B6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8870-3634-4ADA-B07A-39E4C98D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0837-C8DC-4A5B-8F76-E2CD33E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B11E-E964-4144-935F-8C8C7EF0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A3FC-E1A8-4761-85B0-E39815D7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8BB0-700A-43F0-BCEA-8AB8C7B6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A58A3-4D77-45FE-9FA8-A26FD9BB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32B9-E3A5-4449-93D2-88C59C2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042C-D958-466F-BC7E-628137D5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E857-F53F-4D70-96CE-77A115AF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A9D32-4863-4FEC-A318-8E5E752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112C-18C9-4563-BE7F-74CD9F4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35B5-DB8A-46D6-95D2-41DAC570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0B42-D9AE-4AFB-AE65-5A9E6F05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F189C-36A4-44F9-939E-101C7811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01F9-578B-49A8-ADFF-E75D1AC3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0139C-3F98-424A-89C7-E81506B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626A5-DC2D-4F8F-86A6-3C8DA0EC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E1DB-FACB-44E0-ABFD-73205192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2AF8-145A-477E-8938-C22DE47E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DABB-C7FC-4A91-B743-7A134C75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BB189-398D-46EA-A553-BA3A5B0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D94A-C3DC-49F6-B49A-EE384C3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8842-1BD1-429E-8334-0254BD1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CF96-53B8-45A5-AE88-47340BEA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AC1AB-3D84-4421-842F-96FD3E6B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BC96-FAD4-474F-9BD4-BC0790B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CD375-39DF-4411-8F62-B1782854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AB94-1B34-4D97-9FD5-64F0E9D6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23775-43DE-4B99-A271-E42384D9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8615E-56A7-40F6-80A8-CDE80F3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B289-9F4A-4539-9DAE-BDC607BE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D41CD-5297-49A7-851A-1A007A19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89CB2-9F3F-4382-99A0-8BCB1522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49257-3A4E-4760-AF58-1FCF5ED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06E8A-0574-4BAF-93A3-77954BB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73F99-6E4F-48DC-94E0-294C13C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9F0E-2C0B-4B2D-A171-A14F02A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D6B94-AEEB-477B-A94B-8A05D93B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EE9C9-96B7-4AB2-BAC7-9A4AE1BA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6663-D515-4908-8776-2BB733FF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3AC76-E6CB-4B00-86C6-99DD9F92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B73E1-EFF2-4E01-80A7-B55D3AA3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52FC-1CA0-49B1-ACA5-31DB1034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5FF62-1884-41B2-A109-D55B41A4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89FD6-F8D6-4CF6-8DF9-B4C6EE28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AEFA4-67CC-406D-804E-83C89432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D90B2-5334-480C-91F1-387DAB9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29B3-1A82-4040-A1B0-C1E1CFAA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F5BF3-3F1A-405A-9379-2C40EE3F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FA569-AF4F-49E1-8084-D0FEB590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63EAE-C549-4881-9EC2-C86BDB4F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DA96B-8486-477D-A5CD-174948B5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FCABE-0596-4C7F-9F0D-11EB21FE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ADEED-5CB3-42A1-9F93-0D82E1CA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B2C38-06D6-4A83-BDA3-5CE4CAB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3E70F-EC1F-4F24-BEFF-9DA5BECA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C2BFE-47B7-48A5-9A50-35F84C72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2F47E-C48A-4ABE-AA87-552617B4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806F-BE4E-4F89-8703-E2F232A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59B4E-F7D5-4A76-A71E-8E01B01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EAA7E-5B42-4546-8F06-98EF125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92DAA-CE53-4B01-9098-E22A6BE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B788A-C4BD-4874-8A8D-1299907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9DDCB-83E9-4A24-ADEC-42BEBB4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64DFD-91E5-4CF1-947A-2E9195E9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35D99-8C57-486A-B4E4-23387CBA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71B91-CAD3-4BBF-BC80-AD515715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D186C-66C4-4E9F-B1E6-6C6EC6A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16F83-6E7C-4BB1-9A47-0F482B86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1ED1-E286-4911-B99F-DEC6F0AC9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3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3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3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3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1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4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214C-8467-4972-8901-A61F6C4564B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720F-48AA-4E5F-85E2-E013DF8C6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96D3-CEA0-49AC-90E5-182652B3E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8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9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9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9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0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2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46C7-8D28-4246-8CC4-D4B015FE13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8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8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0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0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2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5647-D259-47AD-A740-FE97A7B1CA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81F9-AFD8-44CF-94C0-3B5F02399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2CAD-19D4-40DB-B00B-E2CE4BBB7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C6D-D202-49AD-AA44-99EACE2AA2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573A-8DB9-469C-8B2C-5FDA178FD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D56-33D2-4637-9F2D-D1F55AD2D21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2B84-2016-4C8B-8E71-C788B18C1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016C-BA02-4BE9-B2B9-CA9C7505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E95-64FB-4A2C-A855-8A17224B07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7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8121-2ACE-4F05-A3F4-F1401C2D13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5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5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5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6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3EFC-3815-4893-AAD7-26CC9072249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La Mansion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or Nimish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8" name="" descr=""/>
          <p:cNvPicPr/>
          <p:nvPr/>
        </p:nvPicPr>
        <p:blipFill>
          <a:blip r:embed="rId1"/>
          <a:stretch/>
        </p:blipFill>
        <p:spPr>
          <a:xfrm>
            <a:off x="1295280" y="3127320"/>
            <a:ext cx="6172200" cy="30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Ma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una mansion. Es muy estupen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1055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ocina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La cocina es muy be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5" name="" descr=""/>
          <p:cNvPicPr/>
          <p:nvPr/>
        </p:nvPicPr>
        <p:blipFill>
          <a:blip r:embed="rId2"/>
          <a:stretch/>
        </p:blipFill>
        <p:spPr>
          <a:xfrm>
            <a:off x="4495680" y="2101680"/>
            <a:ext cx="4419720" cy="39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29" fill="hold"/>
                                        <p:tgtEl>
                                          <p:spTgt spid="1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comedor. Es muy  grande.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Luxurious Dining Room Decorations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3733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uarto.El cuarto es muy fabuloso.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1"/>
          <a:stretch/>
        </p:blipFill>
        <p:spPr>
          <a:xfrm>
            <a:off x="3429000" y="3227400"/>
            <a:ext cx="471492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La sala es muy mod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667400" cy="344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n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no.El bano antiquo y vie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1219320" y="2657520"/>
            <a:ext cx="6286320" cy="4200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Pat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patio peque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2"/>
          <a:stretch/>
        </p:blipFill>
        <p:spPr>
          <a:xfrm>
            <a:off x="1752480" y="2895480"/>
            <a:ext cx="5000760" cy="333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in muy bel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4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6095880" cy="403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4" dur="200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5Z</dcterms:created>
  <dc:creator>gargnim</dc:creator>
  <dc:description/>
  <dc:language>en-US</dc:language>
  <cp:lastModifiedBy>gargnim</cp:lastModifiedBy>
  <dcterms:modified xsi:type="dcterms:W3CDTF">2011-10-26T13:41:12Z</dcterms:modified>
  <cp:revision>10</cp:revision>
  <dc:subject/>
  <dc:title>La Casa Nimish</dc:title>
</cp:coreProperties>
</file>